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13.wmf" ContentType="image/x-wmf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A4D-49BD-4344-8C0F-A4586FF1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D829-2391-4B9F-A63B-3B311675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3C4-6032-415E-9C20-132CA1F0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55D-01A5-43A8-B95E-91FF5A50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BF4-E3D4-45D5-B26D-2DDB8A14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6BD-1145-4C15-98D1-0E1691F9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71C-7367-4565-981D-65DC497C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B926-8609-457A-B1D2-9360A9E0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DA0-50FC-43C4-866F-72A196E9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F4F-60D9-4350-9577-4A1F24E1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56D-67EB-447E-BF54-81A7A4C7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C1C-A852-4B31-AAD2-2CFE1581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FF4A-95C3-4514-9C98-135A422BB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quista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essica O’Ne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1827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pital is Tenochtitlan which was a city in the middle of a l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Indians were polytheistic which means that they believed in many different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ade human sacrific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d lots of 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3809880"/>
            <a:ext cx="6172200" cy="2828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4520" y="64904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takalaya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001000" y="4092480"/>
            <a:ext cx="838080" cy="70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flipH="1">
            <a:off x="380880" y="5410080"/>
            <a:ext cx="990720" cy="836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80880" y="4267080"/>
            <a:ext cx="990720" cy="836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924680" y="5486400"/>
            <a:ext cx="91152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Indians didn’t have just one capital they had many different ones like Yucatan Penins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d slaves that could gain their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region didn’t own that much 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polythei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813280" y="-2910960"/>
            <a:ext cx="184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dupic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417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95680" y="1317600"/>
            <a:ext cx="18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takalaya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8200" y="6490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shakti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57400" y="3352680"/>
            <a:ext cx="422928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925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America, Andes Mt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was Cuz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polytheistic belief in many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d animal sacrifice, and on special occasions human sacrifice (children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20" y="64904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p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840120" y="2429280"/>
            <a:ext cx="12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p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840120" y="3486600"/>
            <a:ext cx="18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p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71600" y="3460680"/>
            <a:ext cx="350532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e was a Spanish explorer and a conquistador which means that he takes people over by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zuma believed that he was one of their gods named Quetzalcoatl who was a pale skinned Aztec g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anish were driven away but planed to return to defeat the Aztecs once and for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anish destroy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ochtilan and created Mexico 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renatica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28958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z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Cortez he was a conquistador and a Spanish explor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traveled with 180 men and 27 horses to Peru to conquer the In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s were in the middle of a civil war which means that their country was fighting between  two parts of the cou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ahuapla, Inca emperor was kidnapped and held up for a ran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zzaro tricked the Incas by taking the gold but not giving back Atahuapla and later he was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4640" y="649044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s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3095640" cy="27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34120" y="403848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central America speaks Spanish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do the descendants of the Aztecs, Mayas, or the Incas worship their Indian gods instead they are Christi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their traditions have disappeared and they no longer d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don’t believe in many gods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19920" y="4800600"/>
            <a:ext cx="1333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1827000" cy="1827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181480" y="3809880"/>
            <a:ext cx="3505320" cy="2479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2120" y="3352680"/>
            <a:ext cx="268272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657600" y="1600200"/>
            <a:ext cx="18478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48:38Z</dcterms:created>
  <dc:creator>jklib</dc:creator>
  <dc:description/>
  <dc:language>en-US</dc:language>
  <cp:lastModifiedBy>jklib</cp:lastModifiedBy>
  <dcterms:modified xsi:type="dcterms:W3CDTF">2011-11-28T16:24:14Z</dcterms:modified>
  <cp:revision>5</cp:revision>
  <dc:subject/>
  <dc:title>Conquistadors</dc:title>
</cp:coreProperties>
</file>